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3B2-9BF7-4F39-AE4F-9175A371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046-F6D4-43AE-ABFE-5B351D2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C63-657E-4DAD-B129-70D33CA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966-034E-449E-A71F-83946846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05D-6D32-4344-B638-1DD8332C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A781-97D8-47E5-9182-A1486E0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5987-F902-4350-94D2-6751421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344D-6CDB-4B54-9621-23FEE29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EC57-0391-4347-8267-6E1E2EC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A6B5-8F85-433F-A31B-D3A9914A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D5F-0C9C-48F1-B391-100ECCB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897-17EB-41A0-A73F-CD16CD13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223-7281-4E3A-AD96-1BBE03C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26F-19A6-4AC0-8CEB-F9F43F1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2201-566F-4998-BC38-1DA600CD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90EC-2EAB-48A7-8EB0-09BE713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22C7-4E21-41EC-9C9C-7BC0763C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F17-332F-4BE9-A572-0EB3468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017-A15A-4DED-82A9-FF207EC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3E9-491E-40EF-B0DC-68825C80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FD2-18BD-4FD6-BAC2-F55575C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F91-052B-47D3-8946-4F168FC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327-6A6D-4C55-8CE4-213846E1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875-A325-4C3B-94B5-BFFB89C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1DF-880C-4073-A7A5-73896EF6BC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2DC-2DB7-4865-933F-CE9FF4BE15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 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hfield Jr. Hig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 is for Vendet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your Jr. High)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do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favorite movie or book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 algn="ctr">
              <a:lnSpc>
                <a:spcPct val="8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omic Sans MS"/>
              </a:rPr>
              <a:t>Ms. Werner</a:t>
            </a:r>
            <a:endParaRPr b="0" lang="en-US" sz="69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Nam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favorite color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favorite word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uchn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I need for English clas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br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 or black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se leaf paper or note 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-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ring binder with 2 envelopes and 4 ta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ccordion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 this term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wer of words in nonfi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nonfi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grap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ing fictional accounts to actual events 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e Cruci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ay of 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NGS YOU SHOULD COVER IN YOUR ESS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me about yourself—family, sports, interests/ hobbies, talents, jobs, a recent move, how you spent your summer, favorite movie/book/band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kind of a student are you?  What should I know about your learning style or needs and your academic ability?  Are there any concerns or frustrations you have with English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and explain at least THREE goals for yourself in this class.  Make your goals meaningful, measurable, and realistic.  Feel free to explain why you set these particular go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TS OF AN ESS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5:14:23Z</dcterms:created>
  <dc:creator>awerner</dc:creator>
  <dc:description/>
  <dc:language>en-US</dc:language>
  <cp:lastModifiedBy>awerner</cp:lastModifiedBy>
  <dcterms:modified xsi:type="dcterms:W3CDTF">2008-09-02T15:19:21Z</dcterms:modified>
  <cp:revision>3</cp:revision>
  <dc:subject/>
  <dc:title>Name Tents</dc:title>
</cp:coreProperties>
</file>